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29632"/>
        <c:axId val="97945844"/>
      </c:barChart>
      <c:catAx>
        <c:axId val="86929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45844"/>
        <c:crosses val="autoZero"/>
        <c:auto val="1"/>
        <c:lblAlgn val="ctr"/>
        <c:lblOffset val="100"/>
        <c:noMultiLvlLbl val="0"/>
      </c:catAx>
      <c:valAx>
        <c:axId val="97945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29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EB2D-7745-481B-9D84-E64EC313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23BB-12C1-4FF4-A017-5B30E59A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32A-9213-4E87-8B8F-EF7352AB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7BF2-73C2-4378-9AAA-70CE6C33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136-E37B-4924-8B9C-276CAD57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B96A-47C2-4256-9A6B-FFDC96D7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02E-651B-4D0A-901C-D6FDCE1E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0F7-ED0F-4EE7-9765-347EC16C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73A-2F02-4007-8349-C9F5C57E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699-0D96-4347-9461-BF2FF4D7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0AF-834D-4E7E-8DDE-8DF3EA1C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863-67DB-46F5-A986-F6ED8D6C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837C5-8098-40A1-A14A-9A28A198C4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