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03304"/>
        <c:axId val="76343014"/>
      </c:barChart>
      <c:catAx>
        <c:axId val="35303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43014"/>
        <c:crosses val="autoZero"/>
        <c:auto val="1"/>
        <c:lblAlgn val="ctr"/>
        <c:lblOffset val="100"/>
        <c:noMultiLvlLbl val="0"/>
      </c:catAx>
      <c:valAx>
        <c:axId val="76343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03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6C1-C7B2-4911-8492-2ABB9095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E00-A49F-4BF2-A383-019C441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B0E-F50D-4E6F-B385-897D5D55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B85-69EA-44D0-9007-7959F5AC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FC7-DC54-465F-970A-BD5653D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705-7D65-447F-9AB4-14E7FC7F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71F-DC7D-48E4-8F21-7638A04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177-FC06-4A0D-AE93-5A2A369F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9FA-7534-47A0-AD70-0DE605B1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1DA-741B-4209-B929-74E243C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A0B-141F-4B0E-9C9E-036F944B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31F-40EB-40CC-9BB9-04FFAAC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A161F-88A5-43FA-A3C4-BAAA5FB37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