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88046"/>
        <c:axId val="14298956"/>
      </c:barChart>
      <c:catAx>
        <c:axId val="63888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98956"/>
        <c:crosses val="autoZero"/>
        <c:auto val="1"/>
        <c:lblAlgn val="ctr"/>
        <c:lblOffset val="100"/>
        <c:noMultiLvlLbl val="0"/>
      </c:catAx>
      <c:valAx>
        <c:axId val="14298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88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589-12C8-4585-9B16-534ACE93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291-17DF-452B-BD1D-2EF744AD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D97-7EDC-4252-8CF3-CC6D40ED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CC6-974D-4A09-90A4-1917829B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1A8E-16DD-4111-AE71-0112B46B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D14-6471-4D05-88F2-A70148B0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651-23FF-4E8B-8DED-DECEF6EA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D4E-74AC-4C80-8277-B20E7A69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C60-B9F1-4AB8-8CE8-2D515174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B98-7226-4130-9BBF-D5C9489E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E69-9B80-43DF-A037-2E4FEF33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590-4772-43A6-A11C-CA57BAE4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0C2C7-B7E1-428C-B898-DF901FBDB3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