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004070"/>
        <c:axId val="47351"/>
      </c:barChart>
      <c:catAx>
        <c:axId val="660040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351"/>
        <c:crosses val="autoZero"/>
        <c:auto val="1"/>
        <c:lblAlgn val="ctr"/>
        <c:lblOffset val="100"/>
        <c:noMultiLvlLbl val="0"/>
      </c:catAx>
      <c:valAx>
        <c:axId val="473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040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1061-A2B7-4236-BFD6-00EF6B088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1BD3-1CB0-497D-94D0-536C5318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1373-B3E9-43A4-A56A-FC164EE41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7566-44F1-4C63-ACE3-7698D593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6173-91C8-4FBA-988D-1E6A284B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D294-C45A-4244-AB2E-71B6CB19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008E-BBA7-4086-BC27-2A9DAB9B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5AA2-BB27-49F5-ABAB-043A9BBA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0027-0222-4D2D-9E3F-C989FFFA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1EE9-C4E9-45BD-899B-DFB3FC6D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4C95-9F58-45E1-9F0E-63332402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29E1-00D1-4A65-A44F-E4D75FEC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C7443-53C5-4DD1-9829-25F2270BB5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