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60669"/>
        <c:axId val="75494733"/>
      </c:barChart>
      <c:catAx>
        <c:axId val="60260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4733"/>
        <c:crosses val="autoZero"/>
        <c:auto val="1"/>
        <c:lblAlgn val="ctr"/>
        <c:lblOffset val="100"/>
        <c:noMultiLvlLbl val="0"/>
      </c:catAx>
      <c:valAx>
        <c:axId val="75494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60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A15-57FA-4FE4-9C4A-97C7650F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5C1-C3AC-4BC9-AD3A-27069B7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6B2-0DA8-444E-BB8D-A2DEBB17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A8E-C128-47BF-8A55-B9191DA4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B16-240D-4132-8B3A-586E574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4AF-3874-432A-9FFC-8DD7C5A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51E-A067-407B-BDAD-191DF4A0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C7-A816-4818-9E06-E2D6952E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0EB-5323-465D-B3DD-20FC793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D48-FCB2-42C7-96C9-D0D7860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65D-08F9-4DE6-A747-C81999F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664-67C5-4F43-A393-60FBAF9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9DC95-6A42-4709-8D24-3CFA5F8CE1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