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66885"/>
        <c:axId val="16436123"/>
      </c:barChart>
      <c:catAx>
        <c:axId val="37966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36123"/>
        <c:crosses val="autoZero"/>
        <c:auto val="1"/>
        <c:lblAlgn val="ctr"/>
        <c:lblOffset val="100"/>
        <c:noMultiLvlLbl val="0"/>
      </c:catAx>
      <c:valAx>
        <c:axId val="16436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66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9ED-DC92-4402-8CC3-500676ED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742-A62B-4571-A24E-D3D7A670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CC7-09F6-4335-8B2F-AB2CDC79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A55-D939-43C6-B899-8108BA63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370-78AC-4EDD-A8B8-FE550314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74B-589F-47E6-944C-67C79992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3A3-1CB6-4161-8C54-B86322A3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D33-68E1-4A20-8950-F267BA98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771-3118-4D80-AF7C-0A0A9C41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120-16D4-4D34-9B40-5500621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3C4-5B43-4ED8-97CB-245EBE62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252-84C4-41AC-ADE9-0302DF09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B7553-8E11-46F9-B5C2-C6A991CC23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