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11218"/>
        <c:axId val="18646647"/>
      </c:barChart>
      <c:catAx>
        <c:axId val="70711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46647"/>
        <c:crosses val="autoZero"/>
        <c:auto val="1"/>
        <c:lblAlgn val="ctr"/>
        <c:lblOffset val="100"/>
        <c:noMultiLvlLbl val="0"/>
      </c:catAx>
      <c:valAx>
        <c:axId val="18646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11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6FD-5A5A-4F6B-977A-D6EE34A8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183-E101-42A9-89C2-A405D086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0A3-E23B-48E5-BF1B-6BD557FF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326-5FCA-41D0-99BD-31A25467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B14-1CD5-4050-9E29-3C8B1CE1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8F2-9999-445C-9ED5-DA52EF42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EB9-5AFE-4E69-A6EA-F13FE7D7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4EE-054E-435C-B67C-F9CD0672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6A3-C737-4D40-9D12-755620C7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BD5-7F32-4FCC-840B-899689C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939-9E62-4FCD-87DF-76C64D1C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823-98DD-44A7-B375-22972436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D0CE5-3084-4668-A78D-1A894AD5F4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