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502832"/>
        <c:axId val="98614182"/>
      </c:barChart>
      <c:catAx>
        <c:axId val="415028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614182"/>
        <c:crosses val="autoZero"/>
        <c:auto val="1"/>
        <c:lblAlgn val="ctr"/>
        <c:lblOffset val="100"/>
        <c:noMultiLvlLbl val="0"/>
      </c:catAx>
      <c:valAx>
        <c:axId val="986141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5028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1ADE-CB75-4168-85D4-0260E1250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BD35-00D6-47A7-B750-C81D4F3FD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E6A7-5B01-4A76-AE27-8890376FE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ABF1-D029-43C0-82BF-9D620C975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D939-44A8-4FFE-A4B1-78E7609F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61DA-8A8A-4790-871F-32ADE50BD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5227-0801-42D7-84CB-524BDE47D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B4F5-2686-4224-8D86-725513A92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5EC7-9293-42A5-86A4-22C445E59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5BA1-BD11-4CB1-AB99-D80199E8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CA4B-A464-4AAD-8A64-6CC3A4F0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F222-C008-41B7-8C64-DBE0B26E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6CBC5C-E1BF-4913-948D-37D72DA28BD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