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19369"/>
        <c:axId val="90200650"/>
      </c:barChart>
      <c:catAx>
        <c:axId val="41019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00650"/>
        <c:crosses val="autoZero"/>
        <c:auto val="1"/>
        <c:lblAlgn val="ctr"/>
        <c:lblOffset val="100"/>
        <c:noMultiLvlLbl val="0"/>
      </c:catAx>
      <c:valAx>
        <c:axId val="90200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19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3154-734F-4D40-8354-FA7E43C6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662C-9ED3-41B3-ADC4-F0AA536E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BB7-1732-414F-B6FE-C82B4C16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A46-CBDF-4D72-A620-FF6552DD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742-5112-4083-AE58-998B34E6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85D5-E672-45D9-B003-780FB8BF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B131-D00F-4ED3-88DA-F001223A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A90-C347-4B4C-8441-DD6D2E8E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03C-9255-449D-82AC-56E1901A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D63D-D4A1-4339-A630-3737B2F6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99F-BC3E-441B-9FF7-E4990D51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AEF-6187-4E58-9EA2-0C7DE8D5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196C1-E557-4817-B57D-5AA34F237C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