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36279"/>
        <c:axId val="13013148"/>
      </c:barChart>
      <c:catAx>
        <c:axId val="52636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13148"/>
        <c:crosses val="autoZero"/>
        <c:auto val="1"/>
        <c:lblAlgn val="ctr"/>
        <c:lblOffset val="100"/>
        <c:noMultiLvlLbl val="0"/>
      </c:catAx>
      <c:valAx>
        <c:axId val="13013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6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303-97FC-4E97-A264-757E2234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266-6804-4036-B8DF-174D758F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39D-5FD1-46E5-909C-99F688E9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F46-BF21-4D19-9643-EE189959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FBE-859B-4A9D-8351-9A5A71F6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8EA-0189-4345-89B6-AA4C8155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D0C-5529-43D7-9ADA-3F24F005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D27-8460-4852-A1E1-ADB3ABED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000-25AD-480C-88F8-9D8BB85B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1C4-C320-47FD-AF92-5D4A26EA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75E-084C-40E4-AFD5-2F303546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63E-DD22-4F8D-9F56-53631090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BFC3B-0ECF-4CA1-BF24-BEEFE2DCC2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