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24005"/>
        <c:axId val="3380656"/>
      </c:barChart>
      <c:catAx>
        <c:axId val="92124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0656"/>
        <c:crosses val="autoZero"/>
        <c:auto val="1"/>
        <c:lblAlgn val="ctr"/>
        <c:lblOffset val="100"/>
        <c:noMultiLvlLbl val="0"/>
      </c:catAx>
      <c:valAx>
        <c:axId val="3380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24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C54-1823-4610-A0E7-65C3C14F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AA0-4E31-45BC-BA82-D40F7898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1CA-1E9D-4B34-9823-2E5137D8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8FA-966D-4E0D-8DBF-8152A9ED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53D-924C-4E19-895E-B8E6AEAB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C5E-9502-4B1C-913F-7996E0BA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E7C-3E76-4FA1-9ED2-DE54B44E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521-DCB0-413F-832F-D59091FD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713-FB37-45CD-9A6A-3BD63D55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281-D63E-400B-84F9-7A029253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631-BCA4-4A78-BB23-D7D015CF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6E1-6F48-42DB-B1FD-BACB8471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8C453-5660-417C-A374-61E82C1F68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