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20828"/>
        <c:axId val="60000311"/>
      </c:barChart>
      <c:catAx>
        <c:axId val="17420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00311"/>
        <c:crosses val="autoZero"/>
        <c:auto val="1"/>
        <c:lblAlgn val="ctr"/>
        <c:lblOffset val="100"/>
        <c:noMultiLvlLbl val="0"/>
      </c:catAx>
      <c:valAx>
        <c:axId val="60000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20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2E2-1AB8-4435-97CA-563DA585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FCB-4CFC-44C2-9966-264C77E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C1C-7264-4ED1-BF22-CD12BD7D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1D8-EC20-46ED-A902-AB27CCBA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1CB-A349-4689-8C4C-62DB64D9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93D-854B-4F34-94A2-E8FD6FB0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B0F-E448-4E6E-9C5E-DEAE9FA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31E-2911-426D-AEEC-DB8BDF9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C02-D6A9-4089-89F3-37C36118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C56-006A-4649-BDE1-2A5363B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967-B145-47A1-8995-46F34AD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B06-B346-461A-8AE2-A9B48F3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BA20B-5557-47E8-B80D-047EEFB0A6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