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95262"/>
        <c:axId val="50671822"/>
      </c:barChart>
      <c:catAx>
        <c:axId val="63995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71822"/>
        <c:crosses val="autoZero"/>
        <c:auto val="1"/>
        <c:lblAlgn val="ctr"/>
        <c:lblOffset val="100"/>
        <c:noMultiLvlLbl val="0"/>
      </c:catAx>
      <c:valAx>
        <c:axId val="50671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95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148-8435-4EBC-82BD-7008108A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BFA-2065-4394-BD7D-210A7B53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CFE-A141-41D0-9166-CFF6020A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DBC-DE0A-465A-8EF5-9CCC71D5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9B3-B463-431A-8429-42EE067B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8A3-94E6-4678-8A23-22390276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1B2-83C8-4CBA-A2FB-CCA69830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816-7E62-45EE-98A1-9B90839C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D24-492E-4B08-A7BB-2D013F6F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709-E76F-4F32-BAB6-5378C849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943-78B3-4B05-8AEA-158F323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069-2C69-4194-A0DA-AF9A23B2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DC1A4-02D4-4EFD-88D1-DF8743FEC2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