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35426"/>
        <c:axId val="75124323"/>
      </c:barChart>
      <c:catAx>
        <c:axId val="59635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24323"/>
        <c:crosses val="autoZero"/>
        <c:auto val="1"/>
        <c:lblAlgn val="ctr"/>
        <c:lblOffset val="100"/>
        <c:noMultiLvlLbl val="0"/>
      </c:catAx>
      <c:valAx>
        <c:axId val="75124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35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C0A-9B66-46EF-AA62-03C10FD7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832-C88A-44CB-99EE-78D683FD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D4A-834A-4431-8C9C-BA8F106F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5C2-FB0D-402E-B2A3-1DD9F535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62D-4DA4-492D-9400-AE750357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7D7-8C75-4849-BC30-739407DC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6C9-7845-4DB8-A147-D38661D0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756-8FE7-4FB9-940F-62DAF66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A4A-5C74-458A-9B98-BB07E97D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972-FBF3-43AF-8B2F-D35BB74F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8EB-82E6-49BA-9F36-98E87C68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730-BA38-41D5-A49B-1E5DA39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B149A-5F7B-4041-A80C-9967A8B956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