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686850"/>
        <c:axId val="43328247"/>
      </c:barChart>
      <c:catAx>
        <c:axId val="16686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28247"/>
        <c:crosses val="autoZero"/>
        <c:auto val="1"/>
        <c:lblAlgn val="ctr"/>
        <c:lblOffset val="100"/>
        <c:noMultiLvlLbl val="0"/>
      </c:catAx>
      <c:valAx>
        <c:axId val="43328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86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FA8-0F3B-4B50-9EBD-0153DBDD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01A-6C71-4D29-865D-99E8CA37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288-F41B-4AE8-AF9F-A392D592E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EAC-13D8-403B-8CDD-36E5869B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B6D-D711-4ADB-A666-E0F279DE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5482-5FD5-47B3-8A81-A2EF8CD8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FE4-31F5-4458-AA52-02B842E9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1184-CE1B-4F25-A29F-BFE62682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6624-3936-437B-8DAA-C142D236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40C-A86D-447B-99F8-7817E623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830-F673-4355-89E8-177D394F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B15-FDEE-41C9-A5B3-3028940C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5A078-9B5E-44AD-A15D-3610384A45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