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12333"/>
        <c:axId val="60066270"/>
      </c:barChart>
      <c:catAx>
        <c:axId val="89012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66270"/>
        <c:crosses val="autoZero"/>
        <c:auto val="1"/>
        <c:lblAlgn val="ctr"/>
        <c:lblOffset val="100"/>
        <c:noMultiLvlLbl val="0"/>
      </c:catAx>
      <c:valAx>
        <c:axId val="6006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12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8D0-821D-446D-BCE6-162A0DD2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D6D-141F-40A3-9C75-A26818A0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A4C-C14D-4A64-B557-50798D6B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E8C-247A-4391-8F83-6FA16E07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69C-96D0-47EE-B05E-5FCAE45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32D-D433-4DC8-8203-8604E70F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29D-B7C0-49A7-9E2B-33D805C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2BB-D453-4926-9AD7-2F99E85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77D-62A2-4DC6-AD77-B6D892B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167-E98D-43AE-A250-AB54508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539-6E07-42EC-AF4A-EBCCDC6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AA4-AE35-4EAB-923D-B32444C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96A5F-8665-4461-87E1-00977CE76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