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4681"/>
        <c:axId val="17417161"/>
      </c:barChart>
      <c:catAx>
        <c:axId val="8514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17161"/>
        <c:crosses val="autoZero"/>
        <c:auto val="1"/>
        <c:lblAlgn val="ctr"/>
        <c:lblOffset val="100"/>
        <c:noMultiLvlLbl val="0"/>
      </c:catAx>
      <c:valAx>
        <c:axId val="17417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4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DC3-5B58-4C1C-A30A-2BA3F901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A21-2F24-4007-98E1-115F94D5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692-5B1A-41C4-AE53-18A844A6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7D4-A6B7-44A0-8523-23A669F3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D3DF-FD7D-43E4-83F4-6C4E750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07D-0950-4F03-B962-5DBD0010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C48-760A-4C32-B419-B8B6AD4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FED2-87B7-40EA-9557-F4D943E8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10DF-A6C6-4B68-A824-358B5587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20E-619F-400B-B581-54A58937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B30D-3106-4EEE-A1F9-3DE4A31C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9A3-8F28-452A-BFD3-BB422A2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A36DB-620E-475C-952C-499B4D6B64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