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53096"/>
        <c:axId val="89420508"/>
      </c:barChart>
      <c:catAx>
        <c:axId val="14353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0508"/>
        <c:crosses val="autoZero"/>
        <c:auto val="1"/>
        <c:lblAlgn val="ctr"/>
        <c:lblOffset val="100"/>
        <c:noMultiLvlLbl val="0"/>
      </c:catAx>
      <c:valAx>
        <c:axId val="89420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53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DBF-6FB6-4EEA-8610-AA7D5931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4EE-DADD-42AF-8FD0-55D92420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30E-665D-4917-93BA-AC4359F9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8D0-774E-4BF9-94FF-9855F9E1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221-9B67-4295-968C-3B8C2C51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2B3-96D8-40F0-A3A3-77D9F0C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6F6-1AFA-408A-A803-ADC235B0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008-5A81-4758-84C7-B2FF7EA9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B3A-50F7-4FC0-8060-3CEB542A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357-A5A8-4104-AE52-7F980F3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8C0-EAFC-4B1D-8992-664DFA6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152-F383-462B-AF25-EC65198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00AAB-CBBC-452C-AFFE-B75D94056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