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39884"/>
        <c:axId val="31653597"/>
      </c:barChart>
      <c:catAx>
        <c:axId val="84539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53597"/>
        <c:crosses val="autoZero"/>
        <c:auto val="1"/>
        <c:lblAlgn val="ctr"/>
        <c:lblOffset val="100"/>
        <c:noMultiLvlLbl val="0"/>
      </c:catAx>
      <c:valAx>
        <c:axId val="316535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39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BCD-8E44-4D8B-B5F9-7ACCDA2B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367C-A835-4145-886B-8C94D6DE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4D39-FD42-4926-8C73-F241597B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0F96-8DE8-43B3-9001-41113EF1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E01-C9ED-41F6-BEFA-B11D20C2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2663-60F3-4C8F-97FC-3FEC3F16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82BD-C42F-4C80-8F1C-0EA850B8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A5A-FCEB-4BF7-B546-E6A1E8CD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413-B55D-4D2C-8384-60E33590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7D15-2442-4363-87D8-1549BF54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2CB-8FCF-4544-B61F-F3ED3BA7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311A-3A13-4BB6-AD97-EB76F63F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E2511-8E51-4A4E-859A-AE5ACDD1A1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