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3646"/>
        <c:axId val="3592817"/>
      </c:barChart>
      <c:catAx>
        <c:axId val="5573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817"/>
        <c:crosses val="autoZero"/>
        <c:auto val="1"/>
        <c:lblAlgn val="ctr"/>
        <c:lblOffset val="100"/>
        <c:noMultiLvlLbl val="0"/>
      </c:catAx>
      <c:valAx>
        <c:axId val="3592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3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8DF-1567-4534-84E2-9B3C1E77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67A-2D77-4C3E-A1B6-FA33217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828-58F7-43C4-BE46-2E49040B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008-D1AE-43C4-A630-AB1A371C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639-4D08-419A-8715-D536922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689-DE4B-4B33-9685-E9E6EAE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1EC-54B3-48F7-92C3-56B3AE10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5DF-A48D-48D4-B9B1-A9C8BB9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5AB-2613-4FE6-AA44-3E80782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8A4-42A9-4450-9B6B-48A2468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FF7-D57A-42D8-928B-AEE4E3F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9DC-DBDD-4F9D-B78C-BC6887B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C34D3-4DE9-4DA6-9756-229BCFB0F6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