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82918"/>
        <c:axId val="77789026"/>
      </c:barChart>
      <c:catAx>
        <c:axId val="94882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89026"/>
        <c:crosses val="autoZero"/>
        <c:auto val="1"/>
        <c:lblAlgn val="ctr"/>
        <c:lblOffset val="100"/>
        <c:noMultiLvlLbl val="0"/>
      </c:catAx>
      <c:valAx>
        <c:axId val="77789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82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D9F-9554-40A9-8242-427FBBB6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69B-25B8-49EB-8343-309C73DE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317-16E9-468F-80F7-1000090A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7FB-F448-4E7F-A92E-20F86419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989-AFB4-4565-82F2-EA40066D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2EE-2E04-44DB-8486-92954ADF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7B9-9AC6-41C8-AAF6-8ABB70DA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1BE-FB09-4025-90DB-D3BB5097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458-8376-43E8-93EA-B9A8CDB4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8D4-83C7-4ED0-A656-660038FC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B24-69BF-4C96-B36C-7C9C03D0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743-990A-43D5-AB44-D4F8CA3F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26390-FE60-44EB-88B8-EC613C6E20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