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04787"/>
        <c:axId val="2858682"/>
      </c:barChart>
      <c:catAx>
        <c:axId val="711047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8682"/>
        <c:crosses val="autoZero"/>
        <c:auto val="1"/>
        <c:lblAlgn val="ctr"/>
        <c:lblOffset val="100"/>
        <c:noMultiLvlLbl val="0"/>
      </c:catAx>
      <c:valAx>
        <c:axId val="2858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047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3EA-685C-43CC-840C-33F0C17A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F6E-24A2-4D75-9D1F-64C2670B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1F4-6AB2-422D-8D0B-976C0DAC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8C2-6BA6-4B95-8C99-E51A53AC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B75D-139B-4068-89DD-6E40DD46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752-9CE6-4380-B206-BE87D0E5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EC2-CBD8-4AA2-A08B-E0FD7FE2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A7E-CA7E-4A41-8F12-E6A0C62B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6D2D-D7F7-45A7-AE28-192B8F8A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940-6CEA-4BB5-82AA-42EB53C5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EE2-118D-4B22-B883-37CFB0DB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7A3-CEAD-44BC-9B99-BE1F391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454D7-7723-48C1-8039-EA6D687076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