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120048"/>
        <c:axId val="6704133"/>
      </c:barChart>
      <c:catAx>
        <c:axId val="70120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4133"/>
        <c:crosses val="autoZero"/>
        <c:auto val="1"/>
        <c:lblAlgn val="ctr"/>
        <c:lblOffset val="100"/>
        <c:noMultiLvlLbl val="0"/>
      </c:catAx>
      <c:valAx>
        <c:axId val="6704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20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5D73-87ED-457F-A5BA-744D02D2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8921-19C6-4F0D-B4BB-C37DB653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2D8-9011-45BD-8B04-50E6E51E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F6F-8D3B-4A9D-8DAF-9FCDF8E2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AB4-FFCC-4D10-8231-7C56687A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0F0-E693-42B1-BCBD-3407C153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3FBF-E2DC-45A1-B044-EA594377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BEAB-C09E-43AC-95BA-C1560F3C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8BF2-0315-47C8-BF91-53D748FE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3F58-31A2-4FC2-87C1-5DC83D80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A8C-C5D5-4797-80D0-397BD23A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C78F-AF6B-4CAA-B877-C2F426DB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90E2D-CCE0-4A57-A65C-5A707A44A2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