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26791"/>
        <c:axId val="2502335"/>
      </c:barChart>
      <c:catAx>
        <c:axId val="80626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2335"/>
        <c:crosses val="autoZero"/>
        <c:auto val="1"/>
        <c:lblAlgn val="ctr"/>
        <c:lblOffset val="100"/>
        <c:noMultiLvlLbl val="0"/>
      </c:catAx>
      <c:valAx>
        <c:axId val="2502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26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6D5-CEC2-4F31-A0C1-A3C39F09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BC4-7A87-4760-BE14-C925DAD3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B56-AED5-4B39-AF95-C6C3D0BE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0F5-0832-42CF-8F71-5158AA05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667-7D59-4AF9-B520-CD57280C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CAD-853A-4F75-9DBC-75EFD986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5B6-AABA-409F-A35D-0DE5E3CD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006-CDE7-4993-B8A8-B1CB35F1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434-97E9-4A47-B2F5-645FBD9D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AEC-F1DC-4099-A995-DB585157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A4B-327A-47FD-8783-313EA974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FE6-40AD-47DB-BF2D-4E1682D2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28E74-C476-4C8E-B6E1-6861EB3EB1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