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88875"/>
        <c:axId val="26617802"/>
      </c:barChart>
      <c:catAx>
        <c:axId val="86088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17802"/>
        <c:crosses val="autoZero"/>
        <c:auto val="1"/>
        <c:lblAlgn val="ctr"/>
        <c:lblOffset val="100"/>
        <c:noMultiLvlLbl val="0"/>
      </c:catAx>
      <c:valAx>
        <c:axId val="26617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88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40F-9CD4-4D0B-ABD3-6D80E568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459-1D90-40D1-B5D3-5AB835B6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0D3-0651-48C3-93FA-A9E93E0C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167-89E8-466A-A44E-51D5F296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8CD-8509-478C-9F7A-83E1BD64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D52-D414-4632-9664-2C697E5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D9A-4A6B-412F-9220-39ACE81B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332-1C99-45A4-B586-4166AAEA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83D-EB5C-4374-9A7E-2A66E9E1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832-751C-4A2A-ABEB-59953428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F48-4287-409B-AE25-4AB5EB4A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CB4-4C9F-4D9A-BD7F-8D386F1B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EDCF7-ABD2-49D6-B40A-3DBE94592B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