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37185"/>
        <c:axId val="54197823"/>
      </c:barChart>
      <c:catAx>
        <c:axId val="50337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7823"/>
        <c:crosses val="autoZero"/>
        <c:auto val="1"/>
        <c:lblAlgn val="ctr"/>
        <c:lblOffset val="100"/>
        <c:noMultiLvlLbl val="0"/>
      </c:catAx>
      <c:valAx>
        <c:axId val="54197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37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253-9F6E-43D7-83CA-B6256B49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5DD-E2BC-4957-8934-22A02963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E91-BBFC-4CF8-B31E-CE5B66C7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7F5-18A4-4F7B-B226-8314438F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65B-D986-42A0-982B-621A5968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C36-AD89-427C-8396-88343411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8C8-C2C5-4CE6-A3A8-5D739664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A42-CAD1-4EC8-B39F-AB4D7E01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30C-EEDA-4C29-93F2-7BD919D9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E72-A05B-4559-9AC5-BA774266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FB0-82D8-4259-AD26-7D4CFA8E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793-A3CB-4230-BAD8-EC95F852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DB1BA-07DB-4D0D-BD8D-84A8E63DBF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