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57584"/>
        <c:axId val="47926114"/>
      </c:barChart>
      <c:catAx>
        <c:axId val="31257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26114"/>
        <c:crosses val="autoZero"/>
        <c:auto val="1"/>
        <c:lblAlgn val="ctr"/>
        <c:lblOffset val="100"/>
        <c:noMultiLvlLbl val="0"/>
      </c:catAx>
      <c:valAx>
        <c:axId val="47926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57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D64-FB8A-44B2-B791-C49B7815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DE0-69E5-42C7-97A0-00B61BFA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A53-CD6F-40D7-8E36-0C20B7A2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61D-B086-4132-8241-6B78EAD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CA6-9B7C-4DA7-ACFE-DFFB4FD7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C2B-76BF-4C16-A9A2-5A9CD0CE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DB0-BA63-43B3-A5D4-93781FF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52F-39CA-42FC-9200-78B86F33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753-F13B-42C3-B800-B2D4F42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DBE-8125-470C-BB3B-68095BE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788-AC23-45A2-A8E6-CA3F549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1F9-EA6B-434D-99C3-87ECCC18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FD344-B739-43D3-9A0A-B8D056F97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