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94227"/>
        <c:axId val="55402233"/>
      </c:barChart>
      <c:catAx>
        <c:axId val="76294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02233"/>
        <c:crosses val="autoZero"/>
        <c:auto val="1"/>
        <c:lblAlgn val="ctr"/>
        <c:lblOffset val="100"/>
        <c:noMultiLvlLbl val="0"/>
      </c:catAx>
      <c:valAx>
        <c:axId val="554022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94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83B-D17D-41AC-8F4C-9CBA315F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17EB-9970-4CE9-96F0-448305AA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31D-B13C-47F4-A563-8F659430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612-C56E-41E6-819C-C9B6681F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C67-F5C9-4F67-9151-5D32E467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07C-FCCF-4234-BEA9-00131B5F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762-2B0A-4322-839C-4EE82610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6B7-375D-434B-ABE6-F4B6BF99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2915-4A22-4BA5-A953-39708E8C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1C3-78AF-4B32-8338-CE67D7DB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F61-8BE7-4FFE-906F-EB43AC60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6692-8445-4DEF-881F-51D90789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79350-0CB8-4E5A-BDD2-40AF1F9B63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