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25375"/>
        <c:axId val="97550259"/>
      </c:barChart>
      <c:catAx>
        <c:axId val="57525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0259"/>
        <c:crosses val="autoZero"/>
        <c:auto val="1"/>
        <c:lblAlgn val="ctr"/>
        <c:lblOffset val="100"/>
        <c:noMultiLvlLbl val="0"/>
      </c:catAx>
      <c:valAx>
        <c:axId val="97550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25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419-B8D4-4FFD-AEB1-8B5CB30F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EDF-B367-4E2C-911C-E888379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FCE-1D94-4653-9BC9-243BF42B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472-2AA7-4545-84D2-6C096002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E82-73D5-4DF1-B678-39F2183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B55-03E2-4961-9F99-5A996F4B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649-51A2-463A-8176-F5EFE1E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490-03F8-497D-B7DF-A90EBBF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E27-14E2-433B-9694-D06783D3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A39-B7C0-43D6-B508-8AA38F2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A20-DE65-41F3-AD42-A491EE2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C7D-AFB7-43F8-9607-843F393E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80DDF-C691-4814-8FF3-F2275C237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