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174088"/>
        <c:axId val="50762793"/>
      </c:barChart>
      <c:catAx>
        <c:axId val="191740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762793"/>
        <c:crosses val="autoZero"/>
        <c:auto val="1"/>
        <c:lblAlgn val="ctr"/>
        <c:lblOffset val="100"/>
        <c:noMultiLvlLbl val="0"/>
      </c:catAx>
      <c:valAx>
        <c:axId val="507627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1740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9619-6F7F-435B-8260-A9321508D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8E4F-B11B-4047-9265-4DBBA807B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FB16-112F-45B2-A800-C1981B5C5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577A-B6CD-454C-ADC2-CB65E0DD4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4401-87C1-4F84-85D4-D36FE92F8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892A-B0BF-437D-91E1-E98F0CDFC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0284-40E1-40A6-8522-008DCB10B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18C4-6C19-40A0-A958-432EA0718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AF1F-56FE-444F-A0D0-1EF099D26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0EA6-7680-4B2A-8E3F-0DCC6EAE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591A-8942-46AB-B99C-1ABA127E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364C-D138-412D-91B4-0ED998D9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256582-623B-43C3-A19D-95F37D73E47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