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22597"/>
        <c:axId val="31971474"/>
      </c:barChart>
      <c:catAx>
        <c:axId val="99922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71474"/>
        <c:crosses val="autoZero"/>
        <c:auto val="1"/>
        <c:lblAlgn val="ctr"/>
        <c:lblOffset val="100"/>
        <c:noMultiLvlLbl val="0"/>
      </c:catAx>
      <c:valAx>
        <c:axId val="31971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22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70A-C09E-41EC-BCA1-20179CF7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D8C-DA59-4A20-86F5-F9B66B51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E13-7C60-4205-9F52-417DFE40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691-4C31-4143-BC45-DEAF5C64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CF0-0270-4222-BEEE-A3F3AF15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0B1-4438-42E6-B58F-3D6874EB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A4E-D891-4B18-93AC-692C36D1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BCE-70D3-484C-AD9A-1F7ED112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6AE-3AC5-48BE-9291-937B26CB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CDA-4B92-4EC1-BF46-1F88382B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0AA-76A4-46F0-87D2-16D8FA3F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83FE-BB02-4C6C-BEE3-5281C745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FA06A-2B42-4250-B365-464E6F0075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