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41404"/>
        <c:axId val="24143642"/>
      </c:barChart>
      <c:catAx>
        <c:axId val="25641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3642"/>
        <c:crosses val="autoZero"/>
        <c:auto val="1"/>
        <c:lblAlgn val="ctr"/>
        <c:lblOffset val="100"/>
        <c:noMultiLvlLbl val="0"/>
      </c:catAx>
      <c:valAx>
        <c:axId val="24143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1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348-87E7-4CE9-BBAF-FBACB8C9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FA5-81EE-462A-828F-8D76C29E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F47-6E16-447B-9135-B1E6FF77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8F6-F7B2-46E5-A581-4B467A1D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A3F-936F-483F-9C64-1176F35A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454-6ADD-4B8D-A9EE-CB5460B9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9FF-1BC2-4DAE-A06D-0AF92B79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EFC-EA8C-4347-936A-1EF2C700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FD3-EE09-45C3-8585-A030BB65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988-63EE-4895-9271-B8F387F2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B66-6BE9-45F1-B8DE-EF72C6D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CC9-55D3-428B-8D76-86FF1C8E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61658-2CA8-40FA-A015-FDA4B9FAFC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