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68729"/>
        <c:axId val="45835144"/>
      </c:barChart>
      <c:catAx>
        <c:axId val="56568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35144"/>
        <c:crosses val="autoZero"/>
        <c:auto val="1"/>
        <c:lblAlgn val="ctr"/>
        <c:lblOffset val="100"/>
        <c:noMultiLvlLbl val="0"/>
      </c:catAx>
      <c:valAx>
        <c:axId val="45835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68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52E-834B-4E6B-A4E9-67760092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993-95D1-4B7A-AEDE-7781F94C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4F6-52CB-4FF8-ABDF-C3E43FF7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100-7218-4BA9-98FA-B780DC20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864-A32B-4CA7-B4AC-7C5D0D45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B4A-46B2-4B29-B3ED-33DDCBCC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01B-B357-4BF3-AF26-85832484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33D-A74D-4233-81CA-51E91F58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87F-4BEF-469E-9951-4A4254FA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273-EF31-435E-8671-2C6C7CB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219-99A5-4B7B-AFB1-E047F11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FB2-C90B-444A-8DA5-A539548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A0A0B-60FE-4BF5-83DE-1704EBE494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