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79530"/>
        <c:axId val="19142641"/>
      </c:barChart>
      <c:catAx>
        <c:axId val="67479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42641"/>
        <c:crosses val="autoZero"/>
        <c:auto val="1"/>
        <c:lblAlgn val="ctr"/>
        <c:lblOffset val="100"/>
        <c:noMultiLvlLbl val="0"/>
      </c:catAx>
      <c:valAx>
        <c:axId val="19142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79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915-A314-4668-95FA-48CB3EBD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496-879E-4ECF-816D-3B87EFA8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8A4-68F3-4912-A8F7-6D9F30D2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A28-C7ED-4470-86E0-72BE6793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2A5-ADE7-4710-AEAC-25AF3093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6B7-9FFD-4B0A-BE90-3C4F5764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FA6-A6BD-4C22-8ED2-FAFAF991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D38-BD37-40C0-B0BB-BC6FBACF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26C-285B-4F9B-AA26-73C02E82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16B-50C4-4803-877D-B8CB1E82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270-B1EA-4E78-8E14-537F800F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8BF-CAE7-40E3-8533-3CD400ED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00787-0033-490B-9BCB-7894478486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