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65009"/>
        <c:axId val="80177479"/>
      </c:barChart>
      <c:catAx>
        <c:axId val="11165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77479"/>
        <c:crosses val="autoZero"/>
        <c:auto val="1"/>
        <c:lblAlgn val="ctr"/>
        <c:lblOffset val="100"/>
        <c:noMultiLvlLbl val="0"/>
      </c:catAx>
      <c:valAx>
        <c:axId val="80177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65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B4B-21ED-4BFC-B9E9-D582B242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8D6-4088-400A-86F8-6F6D0050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D38-505B-4E0B-ABE9-6F4461BE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E82-D795-46B4-8AB2-8D061F76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FC6-8745-42AC-A2EF-947D9343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FD8-1B16-4FC3-8D73-71618D90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07B-9284-4D3E-9C6C-4F5479B3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136-1222-4B73-A025-9F0610B8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65C-742A-4C4A-865E-3859E181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DF8-AD34-4673-BA7C-FC764B43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581-5A35-44C3-A230-7DB31A9E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FCD-144F-4BD5-91CF-BCE3F298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907DB-3B73-4A82-94E2-084C2FF1F7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