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344138"/>
        <c:axId val="68098884"/>
      </c:barChart>
      <c:catAx>
        <c:axId val="493441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098884"/>
        <c:crosses val="autoZero"/>
        <c:auto val="1"/>
        <c:lblAlgn val="ctr"/>
        <c:lblOffset val="100"/>
        <c:noMultiLvlLbl val="0"/>
      </c:catAx>
      <c:valAx>
        <c:axId val="680988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3441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3C3F-DB08-4AE9-BFAB-249F23D0C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0C47-CA95-4513-9306-FBCCD0F8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6BDE-79CD-4D88-9E3C-91F8201E0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08D7-7EE9-4734-B719-867EE531B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E11C-8563-4EC4-8D3D-302FCB87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2E35-6E8C-4443-907B-911F5531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C077-A31A-46BC-A6A4-BCA924B0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12BC-B8A3-49B7-B32B-ADF485C4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D9AF-D80A-449A-8C66-7F9A9723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C108-1BA4-473B-9C42-F4030740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EC55-BCF8-4FCF-9C0E-C2BCAE0F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7DD0-5965-4C31-A95F-888F49E7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F9A3E3-CB66-4143-B20E-5855E0EA5B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