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92331"/>
        <c:axId val="68885405"/>
      </c:barChart>
      <c:catAx>
        <c:axId val="48292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85405"/>
        <c:crosses val="autoZero"/>
        <c:auto val="1"/>
        <c:lblAlgn val="ctr"/>
        <c:lblOffset val="100"/>
        <c:noMultiLvlLbl val="0"/>
      </c:catAx>
      <c:valAx>
        <c:axId val="68885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92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20A-2775-494E-941C-5A85A4AF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745-5DEF-4F0D-99EF-6FA2CA41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816-42A0-4F30-A9A4-E80D6B3D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7C1-3F4C-4FDE-842F-71705050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0A7-3A59-49EE-9A3E-15018936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322-C41D-480D-879A-63A04950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C8E-0DEF-4BA4-A36A-DC501C67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18BF-D037-42E5-BBA5-21740815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DE9-33C8-422C-A689-1B3BA427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5262-B4A2-48B4-8B06-3ED49872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918-0BBF-47EA-97E3-983191D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D86-0BCC-4D98-B37F-D090AD3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88FF7-FCCA-433B-B274-26540E71C5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