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08420"/>
        <c:axId val="32964872"/>
      </c:barChart>
      <c:catAx>
        <c:axId val="35408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64872"/>
        <c:crosses val="autoZero"/>
        <c:auto val="1"/>
        <c:lblAlgn val="ctr"/>
        <c:lblOffset val="100"/>
        <c:noMultiLvlLbl val="0"/>
      </c:catAx>
      <c:valAx>
        <c:axId val="32964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08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C64-EC7F-4ECC-A90A-45D1F3E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1BB-7972-4EAA-8642-F458CD01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6CB-53B1-4269-9FCA-B7455463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392-C4E9-424C-AE57-A8DB7A6E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176-2137-400E-9C74-ED3D0E5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8D5-7866-4012-94AC-0ADB8B49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F7E-B1C7-4029-8DC0-8926E48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656-4603-4C2A-9EE3-47A2B55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D24-5F8C-4FE3-B697-B0C503C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6F6-9E65-4F48-A1D4-8606DE7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6B1-EE60-40B0-A39B-86838EC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A20-CBB1-4E51-9475-23097EC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0FC7D-0E9F-4EF9-8AFE-200188ADB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