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10155"/>
        <c:axId val="62367382"/>
      </c:barChart>
      <c:catAx>
        <c:axId val="45110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67382"/>
        <c:crosses val="autoZero"/>
        <c:auto val="1"/>
        <c:lblAlgn val="ctr"/>
        <c:lblOffset val="100"/>
        <c:noMultiLvlLbl val="0"/>
      </c:catAx>
      <c:valAx>
        <c:axId val="62367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10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CD5-4117-46A7-B406-89FD170D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E8B-7049-48AE-9E90-B90F1283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DBB-6CA1-43CC-99B6-D5B89BB3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C77-5BC6-4CD7-9B75-97505A16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6B9-9EBC-4DDD-8059-71541F79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2FD-708E-4DEC-AB45-6EB1E948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1A4-C51D-489C-9285-4A98EB99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4A4-6280-4D93-9926-D4ABD163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EF0-B7E3-4935-AECB-10718A3E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B53-F38B-4D6E-A6A8-FE528696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F5F-F988-441E-9A96-20203EEE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5A9-EECC-454D-88E7-793F8B77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6018C-B285-42A8-A251-2F6EC252D6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