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0128"/>
        <c:axId val="81485144"/>
      </c:barChart>
      <c:catAx>
        <c:axId val="7820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85144"/>
        <c:crosses val="autoZero"/>
        <c:auto val="1"/>
        <c:lblAlgn val="ctr"/>
        <c:lblOffset val="100"/>
        <c:noMultiLvlLbl val="0"/>
      </c:catAx>
      <c:valAx>
        <c:axId val="81485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0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969-B0C4-41C0-B643-5F8CC20F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7DA-D06D-4CDD-9ED3-C71BED11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A26-0AAB-40C1-8A62-60B1DCE5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97E-82C0-4C87-9EF6-AC07BB97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CB6-8431-45E5-833F-28436681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080-43C5-49A7-A0CA-6ED81B5A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1AC-37D4-44A8-8626-CB8B39E4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F7A-56C4-4C3C-9332-1FE14685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506-644C-47C4-83F0-62C78F2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C1F-A438-48F8-B6DC-A1C18AC9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2D2-0883-47F8-9D3A-2B4BE36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6D0-2B23-4E1B-95A0-81B5249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E479D-02C8-4055-8F53-34CCE1C25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