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9D42961-3FC6-4DAE-A512-99C8AFB4FE6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63132F5-C91F-4789-BE7E-2256DC9FE02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0F81E60-8B37-4052-97CE-3B77956D764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F4C59F0-29D3-4B55-916B-9C895EA70EE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DF67B8F-4C0D-4269-BB19-E82F822B5A2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E72BF58-14DD-4377-B46E-B293ED6BD7B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EBD8A57-F9A9-4872-9EF2-E6B224BB528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DFBA414-41B5-4282-9B2A-AB18575B96A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2B9CFE7-136C-4019-8529-DF71F27D6C8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09AA4FC-CD57-4E1D-A1F6-A9A77A5195A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71861FF-19CC-451D-B258-9663DA53402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2CFDB2D-4D62-4D0E-B1EF-92DE1EC6487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C816C89-A4C7-44B1-AC3A-4676F294DD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48660A0-7383-4396-B5C4-59BCEA9622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A276EDB-9507-4A8B-B1C3-439BC71FA0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6AAA912-E5DA-49B1-97A6-2F80ECC0E8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E6F2984-010A-4914-8445-D1CDDD6F7CD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96B7CC8-37AD-4B26-AC28-6B4E82AFD9E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4BA654B-7A8A-4DE2-B17F-533024E61F5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4F5014B-0CF8-4B7D-ACFE-370FF1EAECB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CC1AFB5-5617-4B26-9194-FB86F709E3B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BF24017-FFCE-4F4F-A99E-CC14859402C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4003FC0-A329-4369-B26E-438A209EE6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AA80C41-89BA-4474-9B70-BCED51B293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3184D0B-90D7-4C28-BE5E-3A838629D8D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D5D834F-E04F-4BAC-B6C4-042D0FBB9C0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4A176D3-B242-44C7-B848-5104C69827B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4884E81-03F5-41B9-85FB-1D65CE55A72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E7ABECA-5464-4A9F-830F-26B69669F68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B86E9F2-D068-4AD4-9C3E-DF3C6BC0CD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9D6898-F2B4-482C-9BD6-EA78067DB6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94C7A3-1447-440C-A29C-E17CD88D82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D5F2D17-E5A0-4918-AE70-8CA8DE82DC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C7568F-CD9D-406C-9FDA-039A0B67C9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AEFAE7-9689-42EC-9964-9EB99B281C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CC75EB-6E2E-4B6B-B569-2DEBC77D95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8F3A0-CD19-453E-84AF-C67116C4CA1E}"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AD4F2-8E00-4726-8F26-374520C5778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B5F3875-0BE3-47B1-B49D-17B3320BED19}"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2F26354-D3B1-4900-884D-EAACD71AE87D}"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4D5BFEF-AD1D-4A8C-AF22-25B555E5D71F}"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BD5E7B5-0EDB-4B58-9EBF-E7816AA867B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2745E72-9875-409C-A031-B6227636D795}"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6AD81E4-A85D-4279-8DBF-291FD44AB0D1}"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4C3D458-C0FE-411C-9DD4-A868C50E5E87}"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045A228-12CB-4EA9-A70A-0EC51118F7B1}"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62F6E9E-4EF8-4F43-98C8-1B3985FF72D7}"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EF456AD-2EAC-4B8C-A35B-1A18DDBD39DE}"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84B6738-6D7E-4FC2-A55E-6A487BCC9846}"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65753FB9-2106-4582-A4DB-8DD1D582B844}"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4672914-9E5E-4B21-A29C-C8DCF8D29B69}"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6417214-B417-49B6-A0E5-F9A0955A8FBE}"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B5106FA-1EA2-4B58-AA5F-AD3BE30F586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BFF4957-9885-41A0-92A8-3DB7D8233ABF}"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11B894D-BD86-48BD-9FF8-6FF0302792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7EAC959-712A-45E6-A973-053CFBE321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C646215-B026-4884-A408-6B80C2180C10}"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6E42D6F-207A-4A5F-AD0D-D661499A40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A0D084D-BE26-4627-9866-96684C5169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62A005C-DC05-4D30-BC32-56BD91116FFB}"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86BB4A9-3ED6-4DD3-9C5C-1D808AFF66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916E648-4DE0-4DC6-AC5F-CF41EF5335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02A412-4DF8-40B2-9C0C-7243A33FA8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EB79222-D41A-412B-99A4-F383A90C45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2376DF8-264F-4431-9B55-AF95FF543A6E}"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1A7098F-3401-4870-BDE0-7352F2FC3D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16F684C-1670-482C-B3A0-5A8CD51787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2B685EE-4FE5-487C-9BA8-F8A3486A3615}"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727DD1-9665-4F57-BF46-EAEEDF14B8A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D4557EB-2CF6-464A-8C0C-FA0BF0D4B03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6F05178-C209-4CB0-AC0A-65FD57927E6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916CA2F-7E8D-4ED8-9C29-03045535641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49755B0-3E84-4220-A35D-D92E5B6411E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5B92BC6-9337-4F1D-9612-7AA1936AF80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1F105CF-2356-4333-BA86-ACD4C6A2711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FFAA407-931E-4DA5-9243-1282BC26C69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49B321E-6DFE-4C22-A7E3-6F802F61486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5878025-3560-4A73-84D2-A318782A83B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F02E055-9CD5-4B36-8483-806BE678A51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68EC172-B5A7-478A-9B7A-565915735D92}"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9F9D93E-2DB1-4C26-A606-CF0F1679F2D9}"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B15B8C9-28B6-4A43-A848-BDB60D2F4EE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CE8319-276D-4135-8214-B144FF5F3FE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882BFB9-7F5E-4A24-ACC1-6C6D45B720B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03AECBE-7BA4-4E3D-80E3-91A326A4F6A6}"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DB53A66-A7B0-4ED2-894F-10DC200CF2A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2CE67E7-EDC1-4DF2-BDBC-BACA89DBEC1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7E2E66D-0844-432C-9BEB-26184DBCE09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2D8A26D-EAF5-4099-95AC-09BCE694A85C}"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3054FFB-0D6A-4777-BBEB-60FAEA5922B0}"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E92B91B-B3EA-4869-8896-EC74E60A5D1F}"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1C487C8-3F58-4802-9E8D-C74FBE5EBA5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36B8377-C091-4A3C-8045-FC738FC54A0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4E21AFE-C3F1-4E1C-A9FF-455C87E02ECE}"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04B260A-81D2-4684-ACB5-B2A9A5A3B3A4}"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526B94F-F59C-4AF3-93F6-ABEEC2E105B7}"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C3082C2-0B6E-4311-8BA4-FD9B9F107264}"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6C9874E-38D8-40A1-9804-9277C907796A}"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F095D53-98F4-4B05-BAC5-BC776DFD9656}"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973B431-E0CB-4BFD-8B3B-AEF590D340C4}"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2DFF4A6-FAD8-4240-B29B-EE8438C17C1F}"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199265A-EFD3-4043-A1B6-5A4EAFD243F1}"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05577FF-4D00-4AB4-8C26-7B3ADBAE09D4}"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5B9654A-D2BE-4197-9BE2-3B92C7DD0A2C}"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7E4AA8C-BAA9-4B1C-A0AF-F8C22FB2F4D8}"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07B8DEA-4DB4-42BC-B930-63D926B4BBA5}"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3E0336A-AFEF-43D5-8A3A-92C024C9C33D}"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12F56C8-4C48-4CC5-9071-442F5110D866}"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E67ED00-DFAF-4D54-B305-1CE6B84FF5A5}"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B86BE6C-3EE0-4CD8-9733-B68CB0383133}"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3DC216D-A498-4B41-8861-860C363C8557}"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6257293-3A95-47FA-9CBE-EACE0150AABE}"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6EAEFED-AC75-4B6D-A8BE-A4660A8955DE}"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9AD92B-0BF7-40C6-B242-094CE12E3CF2}"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FA19C04-2191-440C-9E2D-94C8876CB707}"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CA7B622-7A4B-4722-995E-51283B72753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0275083-40A2-44AF-BF0C-0FD0DF4CFCCB}"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A26952D-5409-4BB4-9FBB-3DBDFB6AA04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C3551A5-ECAB-43D4-99D0-A135E316EA43}"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DD213FD-2A82-4F51-96CB-51B384BD95E9}"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4B3E274-3DA1-4FA2-B57B-E26D513D7D8E}"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CDE0860-5393-4FD7-99A2-7A60246AC028}"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FA0B27A-6316-42B4-9228-D777F741EEB9}"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91B5CDE-2C0A-48A5-8541-AA92F16D5E34}"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B09C495-B7C5-414A-8A6A-F7E0FD3B03A7}"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DD9945B-4E47-4FC8-8AD5-6D54A380FABE}"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6049C3F-5D81-4F2F-821C-333D82524543}"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D0803E3-E24A-4261-A75C-14579F97A474}"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D086FB4-998B-431E-9208-9DD930A6488D}"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90ABD0-3D36-48A7-9056-3CB9B14F78B8}"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FBF4722-5090-4F82-A7C5-D2FE43734474}"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3CE2F3D-E9EF-41BA-90BB-A986B641D345}"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313EE98-4D34-47FB-921E-AB91838546A6}"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C8924D3-9AA8-4D75-A078-3DB7D639B7AD}"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44289DF-4F32-4F1D-A67F-3530484DACBE}"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115ECAB7-809D-4264-8A2A-84A811CE8033}"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2132277-23FF-4601-8A79-2DA56458DF91}"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DDB1512-21A0-49B3-80A2-4925E727C8FF}"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937540C-8FD4-4846-9A40-48F83F4E631F}"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E578297-FF13-46CB-9F0C-6720EC7B05AD}"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395D60D-C9FA-4775-AD52-A22BFEC4C1DF}"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53C2C01-7AB3-479F-9AB1-17C00F6B40A3}"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998691E-E14A-4678-8D74-E76643A91934}"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DA01B2-2797-44D2-8CF1-A1332989CC75}"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7E25AA2-CBE9-4110-AF5C-ED468419EC0F}"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3019E47-3AE6-4234-A07E-4E6629618215}"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50DF9CB-80CD-43E5-8105-98BF498CAC72}"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07FD774-F011-46B7-A392-46C5949C5128}"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B5EDEE0-1387-4B9D-9DD0-05799C2F4667}"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