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82657"/>
        <c:axId val="97502616"/>
      </c:barChart>
      <c:catAx>
        <c:axId val="65082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02616"/>
        <c:crosses val="autoZero"/>
        <c:auto val="1"/>
        <c:lblAlgn val="ctr"/>
        <c:lblOffset val="100"/>
        <c:noMultiLvlLbl val="0"/>
      </c:catAx>
      <c:valAx>
        <c:axId val="975026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82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688-1554-43AE-B711-8F0FAF35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FF7-FB9A-46DD-B531-4BCE5328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A90B-CCDA-4DC1-9B3D-3A4CC193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AB76-88ED-429F-982F-306A8A4B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02C-2A5C-4559-B0A5-DF9D0D2F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6F4-D8C3-4553-87C5-75AEA144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15D-4A2C-495A-A600-B5EEDB20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A71F-04D1-42F8-9F6A-A70E4989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80C-8DC8-4424-B7CE-5A52B921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B28-5E9C-424C-99C5-04128EF9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8E7-220B-46FA-92D3-AF27840D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DD66-B6A6-453A-912F-C0C5450E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97B77-848A-4CEC-AF7A-1ADF8AA46E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