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32561"/>
        <c:axId val="23835813"/>
      </c:barChart>
      <c:catAx>
        <c:axId val="59432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35813"/>
        <c:crosses val="autoZero"/>
        <c:auto val="1"/>
        <c:lblAlgn val="ctr"/>
        <c:lblOffset val="100"/>
        <c:noMultiLvlLbl val="0"/>
      </c:catAx>
      <c:valAx>
        <c:axId val="23835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32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843-5620-4092-9DE8-6F9C7CF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EA8-CEB9-4439-B52C-41BC82C8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DEA-4B08-40A3-87E6-2A5F5659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B08-21B7-4B38-802A-2216C336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5A7-3DAD-477F-AA02-235B5504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FD2-2201-43B0-A460-A3663D0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814-3F19-40DF-BB91-D6CD3C3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278-22E9-436A-BADC-131A8E1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631-2053-4BB3-9A08-1C70BD2C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6EC-4321-42CF-8E22-DE5B923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759-7E11-4A81-958F-5D06D50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FE-AA80-43B3-A25B-5312A01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FF5E-64F0-48F4-BE72-3CB8FAF4C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