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36577"/>
        <c:axId val="99637214"/>
      </c:barChart>
      <c:catAx>
        <c:axId val="12836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37214"/>
        <c:crosses val="autoZero"/>
        <c:auto val="1"/>
        <c:lblAlgn val="ctr"/>
        <c:lblOffset val="100"/>
        <c:noMultiLvlLbl val="0"/>
      </c:catAx>
      <c:valAx>
        <c:axId val="99637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36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150-3FE3-48BC-9AE3-897C6561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DE9-0C3F-4973-8283-22C4A97D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C66-DDCB-480F-BF86-9335AE56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CE0-8F87-4B72-BA37-9A518C0A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124-E237-420E-AE80-9C2244F0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1EB-6061-42B1-AF06-25862F2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9C5-93F6-4CA1-880F-BC11BD8D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F50-EBDE-484F-A7D8-1AE8914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C4E-D977-4D89-A481-A988A52B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C8D-1779-4F79-A43F-3387486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56A-9675-4226-AD42-83DC3ED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833-8CF5-4D46-947F-F362DAEA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B7508-B7A5-4150-9013-F05A5761A0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