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23652"/>
        <c:axId val="20664198"/>
      </c:barChart>
      <c:catAx>
        <c:axId val="5132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64198"/>
        <c:crosses val="autoZero"/>
        <c:auto val="1"/>
        <c:lblAlgn val="ctr"/>
        <c:lblOffset val="100"/>
        <c:noMultiLvlLbl val="0"/>
      </c:catAx>
      <c:valAx>
        <c:axId val="20664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D50-F54E-42C7-BB2B-59120D49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0F-332D-4555-BF2A-BBED994F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E44-22A0-49B0-A5AB-97C1714E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2AC-9BE5-4911-9A79-15CE0418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3CA-566B-44DA-BA41-54B94A0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FB9-7709-4B5A-8071-AAE7628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5D2-6525-47DD-A9B8-B624528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055-A3C1-4A51-A078-CC187613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099-3BEB-4117-A6B8-391D731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F7A-817B-47C8-91E3-D26715D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936-8277-46D6-B38E-0D4A746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579-7BC1-4745-9F65-96AF87C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1463-F50B-41E3-A806-7E70ABD59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