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04227"/>
        <c:axId val="50040242"/>
      </c:barChart>
      <c:catAx>
        <c:axId val="65004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40242"/>
        <c:crosses val="autoZero"/>
        <c:auto val="1"/>
        <c:lblAlgn val="ctr"/>
        <c:lblOffset val="100"/>
        <c:noMultiLvlLbl val="0"/>
      </c:catAx>
      <c:valAx>
        <c:axId val="50040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04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1DD-4203-43A9-9324-2EB72F2C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059-6AE0-49DB-8A3A-3DE5CFAC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7E0-BE5C-4EF7-A377-FB255E81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546-82C8-49C5-9137-B8730D1D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902-8E5E-4418-AD49-1E49FF15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97D-A256-4606-9747-13C191D0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F3A-90EC-43BE-A605-656DA03F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2C7F-8536-4BCF-9308-C1281E51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57C-14F0-4A78-91B0-FE23AD33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E4B-794A-467F-A1EB-48E00E97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F56C-A069-47F6-ABDB-876BD3F4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C50-56E3-48AA-96D5-0F3E18F9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A645F-FECE-4A24-97BE-A28A83F661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