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9179"/>
        <c:axId val="72626405"/>
      </c:barChart>
      <c:catAx>
        <c:axId val="9839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26405"/>
        <c:crosses val="autoZero"/>
        <c:auto val="1"/>
        <c:lblAlgn val="ctr"/>
        <c:lblOffset val="100"/>
        <c:noMultiLvlLbl val="0"/>
      </c:catAx>
      <c:valAx>
        <c:axId val="72626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9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A58-C5A8-44F7-A7C3-DB71033D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DCD-CBEC-4B33-ADC9-BDF175DD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8ED-06D0-40E5-976C-A14E9390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51-A196-456B-ABCB-35363810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434-941D-4580-AB10-9C7CD807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BB9-9F66-4137-A59D-93165AB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CEA-11A0-4A16-9F13-8354FDF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BDE-061F-4E76-B8A2-8474EC4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0A2-158E-4C59-8915-78AC851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582-D146-4960-9245-48AF108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636-5853-4334-95D8-30C6DFC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682-3071-4A82-926A-2A8C7C0E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A4DF-2243-4695-ACC5-751CF0ACB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