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70980"/>
        <c:axId val="78884801"/>
      </c:barChart>
      <c:catAx>
        <c:axId val="56370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4801"/>
        <c:crosses val="autoZero"/>
        <c:auto val="1"/>
        <c:lblAlgn val="ctr"/>
        <c:lblOffset val="100"/>
        <c:noMultiLvlLbl val="0"/>
      </c:catAx>
      <c:valAx>
        <c:axId val="78884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70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A50-C2F3-4D1B-BEF4-A9617AD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5C6-F8A6-491B-B839-8DA1E83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E0A-F16B-4566-A5F0-D433FA20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5FB-8937-4C19-89FA-5243EFB5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D77-7978-40CD-B26E-A8D25F8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059-465B-4470-8954-ED731CC7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E43-6F20-4655-AAD1-B8EF613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52C-70A5-4000-A5FC-5E9F59D5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AB4-C47A-4071-8603-CC260D22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56B-099E-4596-A255-D8A762A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629-757A-4883-9F27-5459B36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81E-1290-462E-A4A1-58FBE1F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AA6B-8E45-467B-B5FE-9350DCA2B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