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22863"/>
        <c:axId val="12344082"/>
      </c:barChart>
      <c:catAx>
        <c:axId val="95322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44082"/>
        <c:crosses val="autoZero"/>
        <c:auto val="1"/>
        <c:lblAlgn val="ctr"/>
        <c:lblOffset val="100"/>
        <c:noMultiLvlLbl val="0"/>
      </c:catAx>
      <c:valAx>
        <c:axId val="12344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22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6BC-8BA8-4C3C-A86B-0F910DC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73C-A9F8-4349-8E7A-11FE43BF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9CA-2B38-4CD4-8201-74F20826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59F-0F98-46D5-8921-80B835C7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757-C6B2-4BD1-8492-A9309F5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2C9-12F4-45A3-B994-A3A1461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02E-B726-4320-9AAE-7328825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A8E-7A32-4F51-B7E9-190DCD2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C9F-00C1-4D78-AA5F-08E85AA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965-F8C2-4878-AFAA-853B7CB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FA2-7FA4-42FB-86DE-F9CFE54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ACC-0D19-494B-A43B-DB78258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6F121-336A-4933-9AC3-249DFBBE0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