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4783"/>
        <c:axId val="40215743"/>
      </c:barChart>
      <c:catAx>
        <c:axId val="8984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15743"/>
        <c:crosses val="autoZero"/>
        <c:auto val="1"/>
        <c:lblAlgn val="ctr"/>
        <c:lblOffset val="100"/>
        <c:noMultiLvlLbl val="0"/>
      </c:catAx>
      <c:valAx>
        <c:axId val="40215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4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383E-7F1E-49B4-957E-5A21A4DC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B0B2-9BC5-438D-8A0B-EC986109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EAFB-CA30-44BB-A4E4-E52D6E31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4761-B33A-432C-9695-92F4FC4EE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2D7-5EF1-4310-BB90-57F4B375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0062-25E7-4945-9506-04F2AB1B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73C5-DD8A-4348-81A3-7CDDAAA6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282D-6E0D-4405-AF9B-209AE2B7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616-5F71-4C97-BD11-B281D59D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8FE-E8BC-4FCB-B69B-671051CA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E45E-8470-4F59-9842-B70E6DA3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2E87-7495-44BB-85ED-B3C39BF4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94667-6FA7-4579-B1F8-6B3F22A58B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